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ＭＳ Ｐゴシック"/>
              </a:rPr>
              <a:t>Click to move the slide</a:t>
            </a: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74D8-F654-467F-8FB2-4EF5BC0C0D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製品紹介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サンルーフ周りの　アルミ・板金部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ルーフレール、アーチ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足回り部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燃料タンク部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排気系統部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車体骨格部品・ドア周り部品　　などを加工しており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スライド番号プレースホルダ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A13E-4DFE-4D99-9888-029DFD4828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60B-D9A3-475B-A3F4-051017A2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73C-4FE4-4D2D-9CD9-BD45B42A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7CC-9F9E-4C12-882B-776677E6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B41-E507-4DF3-88C8-D94569E9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97D1-897A-42A6-A836-3B1CD835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C874-BB46-40CF-9B9E-908479DA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7BF9-A78E-42BA-BBF0-E262ED30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11A9-8B91-4003-A770-8E550EEE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C8EB-6E5C-4196-A61E-431E6568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1A87-F699-42A9-A84C-A324C806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07D9-9108-409A-A9B0-3C0C5A21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CD2-FC69-4691-9B7F-C435AA24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3140-2579-432A-9731-BB397AA3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7D1B-03F7-4FE5-BE3D-44FA20DB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6215-1ABC-4BC4-90F0-44674768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422B-7B08-4093-A76F-F514D4F6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F6D3-332D-4B5C-BB95-66A88DB8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157-63F8-40BC-96FE-BFBE8855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003-0714-4553-839D-0A6BA336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3CE-A8F1-49DD-802A-47C28DD1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499-76A7-41F0-8C59-16BD2076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F09-24FE-42C7-A079-CA3F2655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925-E7AE-4436-98EF-E834DDCF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A0C-AC23-4D86-AB2B-B6BCF66F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542160" indent="-208440">
              <a:spcBef>
                <a:spcPts val="799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834120" indent="-166680">
              <a:spcBef>
                <a:spcPts val="799"/>
              </a:spcBef>
              <a:buClr>
                <a:srgbClr val="ffff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167840" indent="-166680">
              <a:spcBef>
                <a:spcPts val="799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1501560" indent="-166680">
              <a:spcBef>
                <a:spcPts val="7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1501560" indent="-166680">
              <a:spcBef>
                <a:spcPts val="7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1501560" indent="-166680">
              <a:spcBef>
                <a:spcPts val="7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1F2C-63DC-4716-9D7F-19FCC96A47CE}" type="slidenum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542160" indent="-208440">
              <a:spcBef>
                <a:spcPts val="799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834120" indent="-166680">
              <a:spcBef>
                <a:spcPts val="799"/>
              </a:spcBef>
              <a:buClr>
                <a:srgbClr val="ffff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167840" indent="-166680">
              <a:spcBef>
                <a:spcPts val="799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1501560" indent="-166680">
              <a:spcBef>
                <a:spcPts val="7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1501560" indent="-166680">
              <a:spcBef>
                <a:spcPts val="7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1501560" indent="-166680">
              <a:spcBef>
                <a:spcPts val="7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10280" y="61722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33520" y="61722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ABE5-BECC-4C35-A28F-328D0F4C7852}" type="slidenum">
              <a:rPr b="0" lang="ja-JP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テキスト ボックス 2"/>
          <p:cNvSpPr/>
          <p:nvPr/>
        </p:nvSpPr>
        <p:spPr>
          <a:xfrm>
            <a:off x="5364000" y="5445000"/>
            <a:ext cx="374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〒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55-0812 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埼玉県比企郡滑川町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番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L : 0493-56-4115 FAX : 0493-56-41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a.jnc.ne.jp/dakid000/daikubara/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グループ化 5"/>
          <p:cNvGrpSpPr/>
          <p:nvPr/>
        </p:nvGrpSpPr>
        <p:grpSpPr>
          <a:xfrm>
            <a:off x="2236680" y="2124000"/>
            <a:ext cx="4711680" cy="2673360"/>
            <a:chOff x="2236680" y="2124000"/>
            <a:chExt cx="4711680" cy="2673360"/>
          </a:xfrm>
        </p:grpSpPr>
        <p:pic>
          <p:nvPicPr>
            <p:cNvPr id="91" name="図 4" descr=""/>
            <p:cNvPicPr/>
            <p:nvPr/>
          </p:nvPicPr>
          <p:blipFill>
            <a:blip r:embed="rId1"/>
            <a:stretch/>
          </p:blipFill>
          <p:spPr>
            <a:xfrm>
              <a:off x="2236680" y="2124000"/>
              <a:ext cx="4711680" cy="26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図 6" descr="P9283265.JPG"/>
            <p:cNvPicPr/>
            <p:nvPr/>
          </p:nvPicPr>
          <p:blipFill>
            <a:blip r:embed="rId2"/>
            <a:stretch/>
          </p:blipFill>
          <p:spPr>
            <a:xfrm>
              <a:off x="2480760" y="2334600"/>
              <a:ext cx="4249080" cy="214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403280" y="507960"/>
            <a:ext cx="4897440" cy="7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株式会社大工原製作所</a:t>
            </a:r>
            <a:endParaRPr b="0" lang="en-US" sz="3600" spc="-1" strike="noStrike">
              <a:solidFill>
                <a:srgbClr val="ffffff"/>
              </a:solidFill>
              <a:latin typeface="ＭＳ Ｐゴシック"/>
            </a:endParaRPr>
          </a:p>
        </p:txBody>
      </p:sp>
      <p:pic>
        <p:nvPicPr>
          <p:cNvPr id="94" name="Picture 2" descr="D:\D-マイドキュメント\My Pictures\img125.jpg"/>
          <p:cNvPicPr/>
          <p:nvPr/>
        </p:nvPicPr>
        <p:blipFill>
          <a:blip r:embed="rId3"/>
          <a:srcRect l="75178" t="10548" r="17788" b="83272"/>
          <a:stretch/>
        </p:blipFill>
        <p:spPr>
          <a:xfrm>
            <a:off x="179280" y="507960"/>
            <a:ext cx="1265400" cy="760320"/>
          </a:xfrm>
          <a:prstGeom prst="rect">
            <a:avLst/>
          </a:prstGeom>
          <a:ln w="0">
            <a:noFill/>
          </a:ln>
        </p:spPr>
      </p:pic>
      <p:sp>
        <p:nvSpPr>
          <p:cNvPr id="95" name="角丸四角形 9"/>
          <p:cNvSpPr/>
          <p:nvPr/>
        </p:nvSpPr>
        <p:spPr>
          <a:xfrm>
            <a:off x="108000" y="507960"/>
            <a:ext cx="6192720" cy="833400"/>
          </a:xfrm>
          <a:prstGeom prst="roundRect">
            <a:avLst>
              <a:gd name="adj" fmla="val 16667"/>
            </a:avLst>
          </a:prstGeom>
          <a:noFill/>
          <a:ln w="123840">
            <a:solidFill>
              <a:srgbClr val="0037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図 3" descr=""/>
          <p:cNvPicPr/>
          <p:nvPr/>
        </p:nvPicPr>
        <p:blipFill>
          <a:blip r:embed="rId1"/>
          <a:stretch/>
        </p:blipFill>
        <p:spPr>
          <a:xfrm>
            <a:off x="1692360" y="1041480"/>
            <a:ext cx="7164360" cy="5124240"/>
          </a:xfrm>
          <a:prstGeom prst="rect">
            <a:avLst/>
          </a:prstGeom>
          <a:ln w="0">
            <a:noFill/>
          </a:ln>
        </p:spPr>
      </p:pic>
      <p:sp>
        <p:nvSpPr>
          <p:cNvPr id="161" name="タイトル 1"/>
          <p:cNvSpPr/>
          <p:nvPr/>
        </p:nvSpPr>
        <p:spPr>
          <a:xfrm>
            <a:off x="25092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品質改善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図 3" descr=""/>
          <p:cNvPicPr/>
          <p:nvPr/>
        </p:nvPicPr>
        <p:blipFill>
          <a:blip r:embed="rId1"/>
          <a:stretch/>
        </p:blipFill>
        <p:spPr>
          <a:xfrm>
            <a:off x="468360" y="1724040"/>
            <a:ext cx="8315280" cy="4368960"/>
          </a:xfrm>
          <a:prstGeom prst="rect">
            <a:avLst/>
          </a:prstGeom>
          <a:ln w="0">
            <a:noFill/>
          </a:ln>
        </p:spPr>
      </p:pic>
      <p:sp>
        <p:nvSpPr>
          <p:cNvPr id="163" name="タイトル 1"/>
          <p:cNvSpPr/>
          <p:nvPr/>
        </p:nvSpPr>
        <p:spPr>
          <a:xfrm>
            <a:off x="25092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アクセ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タイトル 1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会社方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角丸四角形 2"/>
          <p:cNvSpPr/>
          <p:nvPr/>
        </p:nvSpPr>
        <p:spPr>
          <a:xfrm>
            <a:off x="1116000" y="765000"/>
            <a:ext cx="6912000" cy="165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Ｐゴシック"/>
              </a:rPr>
              <a:t>私たちは、全ての顧客に喜んでいただけ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Ｐゴシック"/>
              </a:rPr>
              <a:t>商品を目指し、自信と誇れる品質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Ｐゴシック"/>
              </a:rPr>
              <a:t>製品を提供し続け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図 3" descr=""/>
          <p:cNvPicPr/>
          <p:nvPr/>
        </p:nvPicPr>
        <p:blipFill>
          <a:blip r:embed="rId1"/>
          <a:srcRect l="9605" t="5227" r="7342" b="2962"/>
          <a:stretch/>
        </p:blipFill>
        <p:spPr>
          <a:xfrm>
            <a:off x="1332000" y="2376360"/>
            <a:ext cx="2448000" cy="3930840"/>
          </a:xfrm>
          <a:prstGeom prst="rect">
            <a:avLst/>
          </a:prstGeom>
          <a:ln w="0">
            <a:noFill/>
          </a:ln>
        </p:spPr>
      </p:pic>
      <p:pic>
        <p:nvPicPr>
          <p:cNvPr id="99" name="図 3" descr=""/>
          <p:cNvPicPr/>
          <p:nvPr/>
        </p:nvPicPr>
        <p:blipFill>
          <a:blip r:embed="rId2"/>
          <a:stretch/>
        </p:blipFill>
        <p:spPr>
          <a:xfrm>
            <a:off x="4067280" y="2368440"/>
            <a:ext cx="1846080" cy="2573280"/>
          </a:xfrm>
          <a:prstGeom prst="rect">
            <a:avLst/>
          </a:prstGeom>
          <a:ln w="0">
            <a:noFill/>
          </a:ln>
        </p:spPr>
      </p:pic>
      <p:pic>
        <p:nvPicPr>
          <p:cNvPr id="100" name="図 4" descr=""/>
          <p:cNvPicPr/>
          <p:nvPr/>
        </p:nvPicPr>
        <p:blipFill>
          <a:blip r:embed="rId3"/>
          <a:stretch/>
        </p:blipFill>
        <p:spPr>
          <a:xfrm>
            <a:off x="6156360" y="3608280"/>
            <a:ext cx="1833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99ccff"/>
                </a:solidFill>
                <a:latin typeface="ＭＳ Ｐゴシック"/>
              </a:rPr>
              <a:t>会社概況</a:t>
            </a:r>
            <a:endParaRPr b="0" lang="en-US" sz="2800" spc="-1" strike="noStrike">
              <a:solidFill>
                <a:srgbClr val="99ccff"/>
              </a:solidFill>
              <a:latin typeface="ＭＳ Ｐゴシック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69880" y="549360"/>
          <a:ext cx="8004240" cy="3058920"/>
        </p:xfrm>
        <a:graphic>
          <a:graphicData uri="http://schemas.openxmlformats.org/drawingml/2006/table">
            <a:tbl>
              <a:tblPr/>
              <a:tblGrid>
                <a:gridCol w="2674800"/>
                <a:gridCol w="5329440"/>
              </a:tblGrid>
              <a:tr h="32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社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株式会社　大工原製作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所在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〒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55-08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埼玉県比企郡滑川町都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5-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TEL0493-56-4115</a:t>
                      </a: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　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FAX0493-56-41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資本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000</a:t>
                      </a: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万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従業員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5</a:t>
                      </a: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事業内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・輸送機器部品のプレス板金加工及び溶接加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・部品加工のための金型・治具・検具製作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主要顧客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八千代工業株式会社　様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株式会社ユタカ技研　様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セキネシール工業株式会社　様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図 1" descr=""/>
          <p:cNvPicPr/>
          <p:nvPr/>
        </p:nvPicPr>
        <p:blipFill>
          <a:blip r:embed="rId1"/>
          <a:srcRect l="2127" t="5283" r="30869" b="3058"/>
          <a:stretch/>
        </p:blipFill>
        <p:spPr>
          <a:xfrm>
            <a:off x="3224160" y="3716280"/>
            <a:ext cx="534672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山形 13"/>
          <p:cNvSpPr/>
          <p:nvPr/>
        </p:nvSpPr>
        <p:spPr>
          <a:xfrm rot="19291800">
            <a:off x="28080" y="3338280"/>
            <a:ext cx="8659800" cy="439560"/>
          </a:xfrm>
          <a:custGeom>
            <a:avLst/>
            <a:gdLst>
              <a:gd name="textAreaLeft" fmla="*/ 0 w 8659800"/>
              <a:gd name="textAreaRight" fmla="*/ 8660160 w 865980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99" y="0"/>
                </a:lnTo>
                <a:lnTo>
                  <a:pt x="21600" y="10800"/>
                </a:lnTo>
                <a:lnTo>
                  <a:pt x="20799" y="21600"/>
                </a:lnTo>
                <a:lnTo>
                  <a:pt x="0" y="21600"/>
                </a:lnTo>
                <a:lnTo>
                  <a:pt x="801" y="10800"/>
                </a:lnTo>
                <a:close/>
              </a:path>
            </a:pathLst>
          </a:custGeom>
          <a:solidFill>
            <a:srgbClr val="0066cc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タイトル 1"/>
          <p:cNvSpPr/>
          <p:nvPr/>
        </p:nvSpPr>
        <p:spPr>
          <a:xfrm>
            <a:off x="468360" y="260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沿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テキスト ボックス 5"/>
          <p:cNvSpPr/>
          <p:nvPr/>
        </p:nvSpPr>
        <p:spPr>
          <a:xfrm>
            <a:off x="1620720" y="5877000"/>
            <a:ext cx="48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・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1966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2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月　東京都北区に個人企業として創業開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テキスト ボックス 6"/>
          <p:cNvSpPr/>
          <p:nvPr/>
        </p:nvSpPr>
        <p:spPr>
          <a:xfrm>
            <a:off x="2193840" y="5445000"/>
            <a:ext cx="46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・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1966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11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月　有限会社大工原製作所　法人設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テキスト ボックス 7"/>
          <p:cNvSpPr/>
          <p:nvPr/>
        </p:nvSpPr>
        <p:spPr>
          <a:xfrm>
            <a:off x="2698920" y="501336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・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1969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3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月　業務拡大のため東京都北区内にて移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テキスト ボックス 8"/>
          <p:cNvSpPr/>
          <p:nvPr/>
        </p:nvSpPr>
        <p:spPr>
          <a:xfrm>
            <a:off x="3672000" y="4221000"/>
            <a:ext cx="54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・</a:t>
            </a:r>
            <a:r>
              <a:rPr b="0" lang="en-US" sz="14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1975</a:t>
            </a:r>
            <a:r>
              <a:rPr b="0" lang="ja-JP" sz="14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年</a:t>
            </a:r>
            <a:r>
              <a:rPr b="0" lang="en-US" sz="14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11</a:t>
            </a:r>
            <a:r>
              <a:rPr b="0" lang="ja-JP" sz="14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月　業務拡大のため埼玉県比企郡滑川町（現在地）に移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　　　　　　　　　　第一期工事として</a:t>
            </a:r>
            <a:r>
              <a:rPr b="0" lang="en-US" sz="14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990</a:t>
            </a:r>
            <a:r>
              <a:rPr b="0" lang="ja-JP" sz="14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㎡工場新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　　　　　　　　　　工機部門　大研工業設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テキスト ボックス 9"/>
          <p:cNvSpPr/>
          <p:nvPr/>
        </p:nvSpPr>
        <p:spPr>
          <a:xfrm>
            <a:off x="4282920" y="3716280"/>
            <a:ext cx="46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・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1992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4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月　株式会社大工原製作所改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テキスト ボックス 10"/>
          <p:cNvSpPr/>
          <p:nvPr/>
        </p:nvSpPr>
        <p:spPr>
          <a:xfrm>
            <a:off x="539640" y="3068640"/>
            <a:ext cx="4681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・</a:t>
            </a:r>
            <a:r>
              <a:rPr b="0" lang="en-US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2002</a:t>
            </a:r>
            <a:r>
              <a:rPr b="0" lang="ja-JP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年</a:t>
            </a:r>
            <a:r>
              <a:rPr b="0" lang="en-US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4</a:t>
            </a:r>
            <a:r>
              <a:rPr b="0" lang="ja-JP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月　隣接地用地買収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　　　　　　　　　第二期工事として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4455</a:t>
            </a:r>
            <a:r>
              <a:rPr b="0" lang="ja-JP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㎡工場新設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　　　　　　　　　  </a:t>
            </a:r>
            <a:r>
              <a:rPr b="0" lang="en-US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5</a:t>
            </a:r>
            <a:r>
              <a:rPr b="0" lang="ja-JP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ｔｸﾚｰﾝ  </a:t>
            </a:r>
            <a:r>
              <a:rPr b="0" lang="en-US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2</a:t>
            </a:r>
            <a:r>
              <a:rPr b="0" lang="ja-JP" sz="15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基導入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テキスト ボックス 11"/>
          <p:cNvSpPr/>
          <p:nvPr/>
        </p:nvSpPr>
        <p:spPr>
          <a:xfrm>
            <a:off x="1332000" y="2421000"/>
            <a:ext cx="46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・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2002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9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月　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300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ﾄﾝ、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250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ﾄ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     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PRG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ﾌﾟﾚｽ機導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テキスト ボックス 12"/>
          <p:cNvSpPr/>
          <p:nvPr/>
        </p:nvSpPr>
        <p:spPr>
          <a:xfrm>
            <a:off x="2411280" y="1773360"/>
            <a:ext cx="46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・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2004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9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月　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650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ﾄﾝ　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PRG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ﾌﾟﾚｽ機導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　　　　　　　　　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10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ﾄﾝｸﾚｰﾝ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1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基導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テキスト ボックス 13"/>
          <p:cNvSpPr/>
          <p:nvPr/>
        </p:nvSpPr>
        <p:spPr>
          <a:xfrm>
            <a:off x="2987640" y="134136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・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2005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4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月　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ISO9001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認証取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テキスト ボックス 14"/>
          <p:cNvSpPr/>
          <p:nvPr/>
        </p:nvSpPr>
        <p:spPr>
          <a:xfrm>
            <a:off x="3635280" y="83664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・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2010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5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月　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300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ﾄﾝ </a:t>
            </a:r>
            <a:r>
              <a:rPr b="0" lang="en-US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PRG</a:t>
            </a:r>
            <a:r>
              <a:rPr b="0" lang="ja-JP" sz="1600" spc="-1" strike="noStrike">
                <a:solidFill>
                  <a:srgbClr val="ffffff"/>
                </a:solidFill>
                <a:latin typeface="HGPｺﾞｼｯｸM"/>
                <a:ea typeface="HGPｺﾞｼｯｸM"/>
              </a:rPr>
              <a:t>ﾌﾟﾚｽ機導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タイトル 1"/>
          <p:cNvSpPr/>
          <p:nvPr/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要設備（プレス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692280"/>
          <a:ext cx="3960720" cy="3932280"/>
        </p:xfrm>
        <a:graphic>
          <a:graphicData uri="http://schemas.openxmlformats.org/drawingml/2006/table">
            <a:tbl>
              <a:tblPr/>
              <a:tblGrid>
                <a:gridCol w="936360"/>
                <a:gridCol w="1563840"/>
                <a:gridCol w="884160"/>
                <a:gridCol w="576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本社工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佐藤鐵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ﾀﾝﾃﾞ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イ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ﾀﾝﾃﾞ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小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ﾀﾝﾃﾞ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5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イ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ﾀﾝﾃﾞ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5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イ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ﾀﾝﾃﾞ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1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イ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ﾀﾝﾃﾞ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（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W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佐藤鐵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ﾀﾝﾃﾞ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イ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ﾀﾝﾃﾞ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8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マ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PRG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（ｺｲﾙ巾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マ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ﾀﾝﾃﾞ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イ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ﾀﾝﾃﾞ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692280"/>
          <a:ext cx="4392720" cy="3168360"/>
        </p:xfrm>
        <a:graphic>
          <a:graphicData uri="http://schemas.openxmlformats.org/drawingml/2006/table">
            <a:tbl>
              <a:tblPr/>
              <a:tblGrid>
                <a:gridCol w="906480"/>
                <a:gridCol w="1514520"/>
                <a:gridCol w="855720"/>
                <a:gridCol w="558720"/>
                <a:gridCol w="557280"/>
              </a:tblGrid>
              <a:tr h="406440"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第二工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イ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PR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5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3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4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イ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PR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3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イ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PR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4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イ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PR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5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アイ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PR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ﾄ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00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19" name="図 8" descr="画像 007.jpg"/>
          <p:cNvPicPr/>
          <p:nvPr/>
        </p:nvPicPr>
        <p:blipFill>
          <a:blip r:embed="rId1"/>
          <a:srcRect l="0" t="0" r="0" b="13864"/>
          <a:stretch/>
        </p:blipFill>
        <p:spPr>
          <a:xfrm>
            <a:off x="826920" y="4724280"/>
            <a:ext cx="3025800" cy="195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20" name="図 11" descr="画像 009.jpg"/>
          <p:cNvPicPr/>
          <p:nvPr/>
        </p:nvPicPr>
        <p:blipFill>
          <a:blip r:embed="rId2"/>
          <a:srcRect l="9227" t="5595" r="0" b="0"/>
          <a:stretch/>
        </p:blipFill>
        <p:spPr>
          <a:xfrm>
            <a:off x="4859280" y="4005360"/>
            <a:ext cx="3816360" cy="2695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タイトル 1"/>
          <p:cNvSpPr/>
          <p:nvPr/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要設備（溶接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4000" y="620640"/>
          <a:ext cx="3960720" cy="1440000"/>
        </p:xfrm>
        <a:graphic>
          <a:graphicData uri="http://schemas.openxmlformats.org/drawingml/2006/table">
            <a:tbl>
              <a:tblPr/>
              <a:tblGrid>
                <a:gridCol w="936360"/>
                <a:gridCol w="1563840"/>
                <a:gridCol w="884160"/>
                <a:gridCol w="576360"/>
              </a:tblGrid>
              <a:tr h="3859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本社工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ﾅｽﾄｰ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定置ｽﾎﾟｯ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0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ﾅｽﾄｰ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定置ｽﾎﾟｯ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5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ﾅｼｮﾅﾙ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定置ｽﾎﾟｯ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5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24000" y="2205000"/>
          <a:ext cx="3960720" cy="4417920"/>
        </p:xfrm>
        <a:graphic>
          <a:graphicData uri="http://schemas.openxmlformats.org/drawingml/2006/table">
            <a:tbl>
              <a:tblPr/>
              <a:tblGrid>
                <a:gridCol w="936360"/>
                <a:gridCol w="1563840"/>
                <a:gridCol w="884160"/>
                <a:gridCol w="576360"/>
              </a:tblGrid>
              <a:tr h="3859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第二工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ﾌｧﾅｯ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ﾛﾎﾞｯ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00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電元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定置ｽﾎﾟｯﾄ　　　　（ｱﾙﾐ溶接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20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ナ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ﾛﾎﾞｯ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10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電元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マル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00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電元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定置ｽﾎﾟｯ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00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5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電元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マル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90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ﾅｽﾄｰ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定置ｽﾎﾟｯ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75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50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ﾅｽﾄｰ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定置ｽﾎﾟｯ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0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電元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定置ｽﾎﾟｯ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50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ﾅｽﾄｰ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定置ｽﾎﾟｯ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5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ﾅｼｮﾅﾙ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定置ｽﾎﾟｯ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5K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716360" y="620640"/>
          <a:ext cx="3961080" cy="1089000"/>
        </p:xfrm>
        <a:graphic>
          <a:graphicData uri="http://schemas.openxmlformats.org/drawingml/2006/table">
            <a:tbl>
              <a:tblPr/>
              <a:tblGrid>
                <a:gridCol w="936720"/>
                <a:gridCol w="1563840"/>
                <a:gridCol w="884160"/>
                <a:gridCol w="576360"/>
              </a:tblGrid>
              <a:tr h="3859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第二工場（ミグ溶接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ﾀﾞｲﾍ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ﾛﾎﾞｯ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30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50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ﾀﾞｲﾍ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ﾊﾝﾄﾞﾐｸﾞ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75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図 9" descr="画像 065.jpg"/>
          <p:cNvPicPr/>
          <p:nvPr/>
        </p:nvPicPr>
        <p:blipFill>
          <a:blip r:embed="rId1"/>
          <a:srcRect l="15763" t="0" r="18781" b="4639"/>
          <a:stretch/>
        </p:blipFill>
        <p:spPr>
          <a:xfrm>
            <a:off x="5148360" y="2565360"/>
            <a:ext cx="3127320" cy="3417840"/>
          </a:xfrm>
          <a:prstGeom prst="rect">
            <a:avLst/>
          </a:prstGeom>
          <a:ln w="12600">
            <a:solidFill>
              <a:srgbClr val="ffffff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rcRect l="16736" t="31677" r="18298" b="30529"/>
          <a:stretch/>
        </p:blipFill>
        <p:spPr>
          <a:xfrm>
            <a:off x="971640" y="2492280"/>
            <a:ext cx="7237440" cy="263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1944720" cy="8859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684360" y="5084640"/>
            <a:ext cx="1368360" cy="12589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29" name="図 6" descr="画像.jpg"/>
          <p:cNvPicPr/>
          <p:nvPr/>
        </p:nvPicPr>
        <p:blipFill>
          <a:blip r:embed="rId4"/>
          <a:srcRect l="4227" t="34755" r="0" b="37802"/>
          <a:stretch/>
        </p:blipFill>
        <p:spPr>
          <a:xfrm>
            <a:off x="2556000" y="5445000"/>
            <a:ext cx="3456000" cy="7430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130" name="図 7" descr="画像 441.jpg"/>
          <p:cNvPicPr/>
          <p:nvPr/>
        </p:nvPicPr>
        <p:blipFill>
          <a:blip r:embed="rId5"/>
          <a:srcRect l="0" t="16427" r="0" b="37795"/>
          <a:stretch/>
        </p:blipFill>
        <p:spPr>
          <a:xfrm>
            <a:off x="6443640" y="5445000"/>
            <a:ext cx="2517840" cy="8636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131" name="Picture 10" descr=""/>
          <p:cNvPicPr/>
          <p:nvPr/>
        </p:nvPicPr>
        <p:blipFill>
          <a:blip r:embed="rId6"/>
          <a:stretch/>
        </p:blipFill>
        <p:spPr>
          <a:xfrm>
            <a:off x="1258920" y="1125360"/>
            <a:ext cx="1417680" cy="13478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32" name="ストライプ矢印 15"/>
          <p:cNvSpPr/>
          <p:nvPr/>
        </p:nvSpPr>
        <p:spPr>
          <a:xfrm rot="4569000">
            <a:off x="1849320" y="2882880"/>
            <a:ext cx="1374480" cy="216000"/>
          </a:xfrm>
          <a:custGeom>
            <a:avLst/>
            <a:gdLst/>
            <a:ahLst/>
            <a:rect l="l" t="t" r="r" b="b"/>
            <a:pathLst>
              <a:path w="1374775" h="215900">
                <a:moveTo>
                  <a:pt x="0" y="37751"/>
                </a:moveTo>
                <a:lnTo>
                  <a:pt x="6747" y="37751"/>
                </a:lnTo>
                <a:lnTo>
                  <a:pt x="6747" y="178149"/>
                </a:lnTo>
                <a:lnTo>
                  <a:pt x="0" y="178149"/>
                </a:lnTo>
                <a:lnTo>
                  <a:pt x="0" y="37751"/>
                </a:lnTo>
                <a:close/>
                <a:moveTo>
                  <a:pt x="13494" y="37751"/>
                </a:moveTo>
                <a:lnTo>
                  <a:pt x="26988" y="37751"/>
                </a:lnTo>
                <a:lnTo>
                  <a:pt x="26988" y="178149"/>
                </a:lnTo>
                <a:lnTo>
                  <a:pt x="13494" y="178149"/>
                </a:lnTo>
                <a:lnTo>
                  <a:pt x="13494" y="37751"/>
                </a:lnTo>
                <a:close/>
                <a:moveTo>
                  <a:pt x="33734" y="37751"/>
                </a:moveTo>
                <a:lnTo>
                  <a:pt x="1266825" y="37751"/>
                </a:lnTo>
                <a:lnTo>
                  <a:pt x="1266825" y="0"/>
                </a:lnTo>
                <a:lnTo>
                  <a:pt x="1374775" y="107950"/>
                </a:lnTo>
                <a:lnTo>
                  <a:pt x="1266825" y="215900"/>
                </a:lnTo>
                <a:lnTo>
                  <a:pt x="1266825" y="178149"/>
                </a:lnTo>
                <a:lnTo>
                  <a:pt x="33734" y="178149"/>
                </a:lnTo>
                <a:lnTo>
                  <a:pt x="33734" y="37751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37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ストライプ矢印 16"/>
          <p:cNvSpPr/>
          <p:nvPr/>
        </p:nvSpPr>
        <p:spPr>
          <a:xfrm rot="2260200">
            <a:off x="1695240" y="3386160"/>
            <a:ext cx="642960" cy="230040"/>
          </a:xfrm>
          <a:custGeom>
            <a:avLst/>
            <a:gdLst/>
            <a:ahLst/>
            <a:rect l="l" t="t" r="r" b="b"/>
            <a:pathLst>
              <a:path w="642938" h="230187">
                <a:moveTo>
                  <a:pt x="0" y="40249"/>
                </a:moveTo>
                <a:lnTo>
                  <a:pt x="7193" y="40249"/>
                </a:lnTo>
                <a:lnTo>
                  <a:pt x="7193" y="189938"/>
                </a:lnTo>
                <a:lnTo>
                  <a:pt x="0" y="189938"/>
                </a:lnTo>
                <a:lnTo>
                  <a:pt x="0" y="40249"/>
                </a:lnTo>
                <a:close/>
                <a:moveTo>
                  <a:pt x="14387" y="40249"/>
                </a:moveTo>
                <a:lnTo>
                  <a:pt x="28773" y="40249"/>
                </a:lnTo>
                <a:lnTo>
                  <a:pt x="28773" y="189938"/>
                </a:lnTo>
                <a:lnTo>
                  <a:pt x="14387" y="189938"/>
                </a:lnTo>
                <a:lnTo>
                  <a:pt x="14387" y="40249"/>
                </a:lnTo>
                <a:close/>
                <a:moveTo>
                  <a:pt x="35967" y="40249"/>
                </a:moveTo>
                <a:lnTo>
                  <a:pt x="527845" y="40249"/>
                </a:lnTo>
                <a:lnTo>
                  <a:pt x="527845" y="0"/>
                </a:lnTo>
                <a:lnTo>
                  <a:pt x="642938" y="115094"/>
                </a:lnTo>
                <a:lnTo>
                  <a:pt x="527845" y="230187"/>
                </a:lnTo>
                <a:lnTo>
                  <a:pt x="527845" y="189938"/>
                </a:lnTo>
                <a:lnTo>
                  <a:pt x="35967" y="189938"/>
                </a:lnTo>
                <a:lnTo>
                  <a:pt x="35967" y="40249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37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ストライプ矢印 17"/>
          <p:cNvSpPr/>
          <p:nvPr/>
        </p:nvSpPr>
        <p:spPr>
          <a:xfrm rot="19009200">
            <a:off x="1627200" y="4908240"/>
            <a:ext cx="663480" cy="222120"/>
          </a:xfrm>
          <a:custGeom>
            <a:avLst/>
            <a:gdLst/>
            <a:ahLst/>
            <a:rect l="l" t="t" r="r" b="b"/>
            <a:pathLst>
              <a:path w="663575" h="222250">
                <a:moveTo>
                  <a:pt x="0" y="38862"/>
                </a:moveTo>
                <a:lnTo>
                  <a:pt x="6945" y="38862"/>
                </a:lnTo>
                <a:lnTo>
                  <a:pt x="6945" y="183388"/>
                </a:lnTo>
                <a:lnTo>
                  <a:pt x="0" y="183388"/>
                </a:lnTo>
                <a:lnTo>
                  <a:pt x="0" y="38862"/>
                </a:lnTo>
                <a:close/>
                <a:moveTo>
                  <a:pt x="13891" y="38862"/>
                </a:moveTo>
                <a:lnTo>
                  <a:pt x="27781" y="38862"/>
                </a:lnTo>
                <a:lnTo>
                  <a:pt x="27781" y="183388"/>
                </a:lnTo>
                <a:lnTo>
                  <a:pt x="13891" y="183388"/>
                </a:lnTo>
                <a:lnTo>
                  <a:pt x="13891" y="38862"/>
                </a:lnTo>
                <a:close/>
                <a:moveTo>
                  <a:pt x="34727" y="38862"/>
                </a:moveTo>
                <a:lnTo>
                  <a:pt x="552450" y="38862"/>
                </a:lnTo>
                <a:lnTo>
                  <a:pt x="552450" y="0"/>
                </a:lnTo>
                <a:lnTo>
                  <a:pt x="663575" y="111125"/>
                </a:lnTo>
                <a:lnTo>
                  <a:pt x="552450" y="222250"/>
                </a:lnTo>
                <a:lnTo>
                  <a:pt x="552450" y="183388"/>
                </a:lnTo>
                <a:lnTo>
                  <a:pt x="34727" y="183388"/>
                </a:lnTo>
                <a:lnTo>
                  <a:pt x="34727" y="3886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37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6588000" y="765000"/>
            <a:ext cx="2160360" cy="2087280"/>
            <a:chOff x="6588000" y="765000"/>
            <a:chExt cx="2160360" cy="2087280"/>
          </a:xfrm>
        </p:grpSpPr>
        <p:pic>
          <p:nvPicPr>
            <p:cNvPr id="136" name="Picture 5" descr=""/>
            <p:cNvPicPr/>
            <p:nvPr/>
          </p:nvPicPr>
          <p:blipFill>
            <a:blip r:embed="rId7"/>
            <a:stretch/>
          </p:blipFill>
          <p:spPr>
            <a:xfrm>
              <a:off x="6588000" y="765000"/>
              <a:ext cx="2160360" cy="208728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37" name="Rectangle 6"/>
            <p:cNvSpPr/>
            <p:nvPr/>
          </p:nvSpPr>
          <p:spPr>
            <a:xfrm>
              <a:off x="6928920" y="1093680"/>
              <a:ext cx="1476000" cy="65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ストライプ矢印 13"/>
          <p:cNvSpPr/>
          <p:nvPr/>
        </p:nvSpPr>
        <p:spPr>
          <a:xfrm rot="8892000">
            <a:off x="5241240" y="2430000"/>
            <a:ext cx="1468440" cy="227160"/>
          </a:xfrm>
          <a:custGeom>
            <a:avLst/>
            <a:gdLst/>
            <a:ahLst/>
            <a:rect l="l" t="t" r="r" b="b"/>
            <a:pathLst>
              <a:path w="1468438" h="227012">
                <a:moveTo>
                  <a:pt x="0" y="39694"/>
                </a:moveTo>
                <a:lnTo>
                  <a:pt x="7094" y="39694"/>
                </a:lnTo>
                <a:lnTo>
                  <a:pt x="7094" y="187318"/>
                </a:lnTo>
                <a:lnTo>
                  <a:pt x="0" y="187318"/>
                </a:lnTo>
                <a:lnTo>
                  <a:pt x="0" y="39694"/>
                </a:lnTo>
                <a:close/>
                <a:moveTo>
                  <a:pt x="14188" y="39694"/>
                </a:moveTo>
                <a:lnTo>
                  <a:pt x="28377" y="39694"/>
                </a:lnTo>
                <a:lnTo>
                  <a:pt x="28377" y="187318"/>
                </a:lnTo>
                <a:lnTo>
                  <a:pt x="14188" y="187318"/>
                </a:lnTo>
                <a:lnTo>
                  <a:pt x="14188" y="39694"/>
                </a:lnTo>
                <a:close/>
                <a:moveTo>
                  <a:pt x="35471" y="39694"/>
                </a:moveTo>
                <a:lnTo>
                  <a:pt x="1354932" y="39694"/>
                </a:lnTo>
                <a:lnTo>
                  <a:pt x="1354932" y="0"/>
                </a:lnTo>
                <a:lnTo>
                  <a:pt x="1468438" y="113506"/>
                </a:lnTo>
                <a:lnTo>
                  <a:pt x="1354932" y="227012"/>
                </a:lnTo>
                <a:lnTo>
                  <a:pt x="1354932" y="187318"/>
                </a:lnTo>
                <a:lnTo>
                  <a:pt x="35471" y="187318"/>
                </a:lnTo>
                <a:lnTo>
                  <a:pt x="35471" y="3969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37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テキスト ボックス 18"/>
          <p:cNvSpPr/>
          <p:nvPr/>
        </p:nvSpPr>
        <p:spPr>
          <a:xfrm>
            <a:off x="6732720" y="333720"/>
            <a:ext cx="1871640" cy="33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Ｐゴシック"/>
              </a:rPr>
              <a:t>サンルーフ部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8"/>
          <a:stretch/>
        </p:blipFill>
        <p:spPr>
          <a:xfrm>
            <a:off x="3203640" y="1341360"/>
            <a:ext cx="3024000" cy="741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41" name="ストライプ矢印 14"/>
          <p:cNvSpPr/>
          <p:nvPr/>
        </p:nvSpPr>
        <p:spPr>
          <a:xfrm rot="5848800">
            <a:off x="3991680" y="2431440"/>
            <a:ext cx="982800" cy="250560"/>
          </a:xfrm>
          <a:custGeom>
            <a:avLst/>
            <a:gdLst/>
            <a:ahLst/>
            <a:rect l="l" t="t" r="r" b="b"/>
            <a:pathLst>
              <a:path w="982662" h="250825">
                <a:moveTo>
                  <a:pt x="0" y="43858"/>
                </a:moveTo>
                <a:lnTo>
                  <a:pt x="7838" y="43858"/>
                </a:lnTo>
                <a:lnTo>
                  <a:pt x="7838" y="206967"/>
                </a:lnTo>
                <a:lnTo>
                  <a:pt x="0" y="206967"/>
                </a:lnTo>
                <a:lnTo>
                  <a:pt x="0" y="43858"/>
                </a:lnTo>
                <a:close/>
                <a:moveTo>
                  <a:pt x="15677" y="43858"/>
                </a:moveTo>
                <a:lnTo>
                  <a:pt x="31353" y="43858"/>
                </a:lnTo>
                <a:lnTo>
                  <a:pt x="31353" y="206967"/>
                </a:lnTo>
                <a:lnTo>
                  <a:pt x="15677" y="206967"/>
                </a:lnTo>
                <a:lnTo>
                  <a:pt x="15677" y="43858"/>
                </a:lnTo>
                <a:close/>
                <a:moveTo>
                  <a:pt x="39191" y="43858"/>
                </a:moveTo>
                <a:lnTo>
                  <a:pt x="857250" y="43858"/>
                </a:lnTo>
                <a:lnTo>
                  <a:pt x="857250" y="0"/>
                </a:lnTo>
                <a:lnTo>
                  <a:pt x="982662" y="125413"/>
                </a:lnTo>
                <a:lnTo>
                  <a:pt x="857250" y="250825"/>
                </a:lnTo>
                <a:lnTo>
                  <a:pt x="857250" y="206967"/>
                </a:lnTo>
                <a:lnTo>
                  <a:pt x="39191" y="206967"/>
                </a:lnTo>
                <a:lnTo>
                  <a:pt x="39191" y="4385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37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テキスト ボックス 19"/>
          <p:cNvSpPr/>
          <p:nvPr/>
        </p:nvSpPr>
        <p:spPr>
          <a:xfrm>
            <a:off x="3203640" y="908280"/>
            <a:ext cx="3024000" cy="33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Ｐゴシック"/>
              </a:rPr>
              <a:t>ルーフレール・アーチ類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テキスト ボックス 20"/>
          <p:cNvSpPr/>
          <p:nvPr/>
        </p:nvSpPr>
        <p:spPr>
          <a:xfrm>
            <a:off x="1042920" y="692640"/>
            <a:ext cx="1873440" cy="33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Ｐゴシック"/>
              </a:rPr>
              <a:t>バッテリーベー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テキスト ボックス 21"/>
          <p:cNvSpPr/>
          <p:nvPr/>
        </p:nvSpPr>
        <p:spPr>
          <a:xfrm>
            <a:off x="179280" y="3501360"/>
            <a:ext cx="1871640" cy="33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Ｐゴシック"/>
              </a:rPr>
              <a:t>エキマニフラン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テキスト ボックス 22"/>
          <p:cNvSpPr/>
          <p:nvPr/>
        </p:nvSpPr>
        <p:spPr>
          <a:xfrm>
            <a:off x="395280" y="6381720"/>
            <a:ext cx="1873080" cy="33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Ｐゴシック"/>
              </a:rPr>
              <a:t>スプラッシュガード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テキスト ボックス 23"/>
          <p:cNvSpPr/>
          <p:nvPr/>
        </p:nvSpPr>
        <p:spPr>
          <a:xfrm>
            <a:off x="3419640" y="6308640"/>
            <a:ext cx="1873080" cy="33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Ｐゴシック"/>
              </a:rPr>
              <a:t>ドアスキ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テキスト ボックス 24"/>
          <p:cNvSpPr/>
          <p:nvPr/>
        </p:nvSpPr>
        <p:spPr>
          <a:xfrm>
            <a:off x="6804000" y="6382080"/>
            <a:ext cx="1871640" cy="33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Ｐゴシック"/>
              </a:rPr>
              <a:t>タンクバンド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ストライプ矢印 25"/>
          <p:cNvSpPr/>
          <p:nvPr/>
        </p:nvSpPr>
        <p:spPr>
          <a:xfrm rot="15931800">
            <a:off x="3578760" y="4743720"/>
            <a:ext cx="1120680" cy="233280"/>
          </a:xfrm>
          <a:custGeom>
            <a:avLst/>
            <a:gdLst/>
            <a:ahLst/>
            <a:rect l="l" t="t" r="r" b="b"/>
            <a:pathLst>
              <a:path w="1120775" h="233363">
                <a:moveTo>
                  <a:pt x="0" y="40805"/>
                </a:moveTo>
                <a:lnTo>
                  <a:pt x="7293" y="40805"/>
                </a:lnTo>
                <a:lnTo>
                  <a:pt x="7293" y="192558"/>
                </a:lnTo>
                <a:lnTo>
                  <a:pt x="0" y="192558"/>
                </a:lnTo>
                <a:lnTo>
                  <a:pt x="0" y="40805"/>
                </a:lnTo>
                <a:close/>
                <a:moveTo>
                  <a:pt x="14585" y="40805"/>
                </a:moveTo>
                <a:lnTo>
                  <a:pt x="29170" y="40805"/>
                </a:lnTo>
                <a:lnTo>
                  <a:pt x="29170" y="192558"/>
                </a:lnTo>
                <a:lnTo>
                  <a:pt x="14585" y="192558"/>
                </a:lnTo>
                <a:lnTo>
                  <a:pt x="14585" y="40805"/>
                </a:lnTo>
                <a:close/>
                <a:moveTo>
                  <a:pt x="36463" y="40805"/>
                </a:moveTo>
                <a:lnTo>
                  <a:pt x="1004094" y="40805"/>
                </a:lnTo>
                <a:lnTo>
                  <a:pt x="1004094" y="0"/>
                </a:lnTo>
                <a:lnTo>
                  <a:pt x="1120775" y="116682"/>
                </a:lnTo>
                <a:lnTo>
                  <a:pt x="1004094" y="233363"/>
                </a:lnTo>
                <a:lnTo>
                  <a:pt x="1004094" y="192558"/>
                </a:lnTo>
                <a:lnTo>
                  <a:pt x="36463" y="192558"/>
                </a:lnTo>
                <a:lnTo>
                  <a:pt x="36463" y="40805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37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ストライプ矢印 26"/>
          <p:cNvSpPr/>
          <p:nvPr/>
        </p:nvSpPr>
        <p:spPr>
          <a:xfrm rot="13537200">
            <a:off x="5490360" y="5048640"/>
            <a:ext cx="1214280" cy="257040"/>
          </a:xfrm>
          <a:custGeom>
            <a:avLst/>
            <a:gdLst/>
            <a:ahLst/>
            <a:rect l="l" t="t" r="r" b="b"/>
            <a:pathLst>
              <a:path w="1214437" h="257175">
                <a:moveTo>
                  <a:pt x="0" y="44968"/>
                </a:moveTo>
                <a:lnTo>
                  <a:pt x="8037" y="44968"/>
                </a:lnTo>
                <a:lnTo>
                  <a:pt x="8037" y="212207"/>
                </a:lnTo>
                <a:lnTo>
                  <a:pt x="0" y="212207"/>
                </a:lnTo>
                <a:lnTo>
                  <a:pt x="0" y="44968"/>
                </a:lnTo>
                <a:close/>
                <a:moveTo>
                  <a:pt x="16073" y="44968"/>
                </a:moveTo>
                <a:lnTo>
                  <a:pt x="32147" y="44968"/>
                </a:lnTo>
                <a:lnTo>
                  <a:pt x="32147" y="212207"/>
                </a:lnTo>
                <a:lnTo>
                  <a:pt x="16073" y="212207"/>
                </a:lnTo>
                <a:lnTo>
                  <a:pt x="16073" y="44968"/>
                </a:lnTo>
                <a:close/>
                <a:moveTo>
                  <a:pt x="40184" y="44968"/>
                </a:moveTo>
                <a:lnTo>
                  <a:pt x="1085850" y="44968"/>
                </a:lnTo>
                <a:lnTo>
                  <a:pt x="1085850" y="0"/>
                </a:lnTo>
                <a:lnTo>
                  <a:pt x="1214437" y="128588"/>
                </a:lnTo>
                <a:lnTo>
                  <a:pt x="1085850" y="257175"/>
                </a:lnTo>
                <a:lnTo>
                  <a:pt x="1085850" y="212207"/>
                </a:lnTo>
                <a:lnTo>
                  <a:pt x="40184" y="212207"/>
                </a:lnTo>
                <a:lnTo>
                  <a:pt x="40184" y="4496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37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タイトル 1"/>
          <p:cNvSpPr/>
          <p:nvPr/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製品紹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タイトル 1"/>
          <p:cNvSpPr/>
          <p:nvPr/>
        </p:nvSpPr>
        <p:spPr>
          <a:xfrm>
            <a:off x="25092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品質改善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図 4" descr="YoA454.JPG"/>
          <p:cNvPicPr/>
          <p:nvPr/>
        </p:nvPicPr>
        <p:blipFill>
          <a:blip r:embed="rId1"/>
          <a:stretch/>
        </p:blipFill>
        <p:spPr>
          <a:xfrm>
            <a:off x="5292720" y="3789360"/>
            <a:ext cx="3662280" cy="2592360"/>
          </a:xfrm>
          <a:prstGeom prst="rect">
            <a:avLst/>
          </a:prstGeom>
          <a:ln w="0">
            <a:noFill/>
          </a:ln>
        </p:spPr>
      </p:pic>
      <p:pic>
        <p:nvPicPr>
          <p:cNvPr id="153" name="図 5" descr="YoA535.JPG"/>
          <p:cNvPicPr/>
          <p:nvPr/>
        </p:nvPicPr>
        <p:blipFill>
          <a:blip r:embed="rId2"/>
          <a:stretch/>
        </p:blipFill>
        <p:spPr>
          <a:xfrm>
            <a:off x="6156360" y="620640"/>
            <a:ext cx="2016000" cy="2822760"/>
          </a:xfrm>
          <a:prstGeom prst="rect">
            <a:avLst/>
          </a:prstGeom>
          <a:ln w="0">
            <a:noFill/>
          </a:ln>
        </p:spPr>
      </p:pic>
      <p:sp>
        <p:nvSpPr>
          <p:cNvPr id="154" name="テキスト ボックス 6"/>
          <p:cNvSpPr/>
          <p:nvPr/>
        </p:nvSpPr>
        <p:spPr>
          <a:xfrm>
            <a:off x="395280" y="9079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お客様が主催する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C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サークル活動事例発表会 取引先大会」に毎年参加し、数多くの賞を受賞しています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角丸四角形 7"/>
          <p:cNvSpPr/>
          <p:nvPr/>
        </p:nvSpPr>
        <p:spPr>
          <a:xfrm>
            <a:off x="468360" y="1844640"/>
            <a:ext cx="4535280" cy="4680000"/>
          </a:xfrm>
          <a:custGeom>
            <a:avLst/>
            <a:gdLst>
              <a:gd name="textAreaLeft" fmla="*/ 221400 w 4535280"/>
              <a:gd name="textAreaRight" fmla="*/ 4313880 w 4535280"/>
              <a:gd name="textAreaTop" fmla="*/ 221400 h 4680000"/>
              <a:gd name="textAreaBottom" fmla="*/ 4458600 h 4680000"/>
            </a:gdLst>
            <a:ahLst/>
            <a:rect l="textAreaLeft" t="textAreaTop" r="textAreaRight" b="textAreaBottom"/>
            <a:pathLst>
              <a:path w="21600" h="22289">
                <a:moveTo>
                  <a:pt x="3600" y="0"/>
                </a:moveTo>
                <a:arcTo wR="3600" hR="3600" stAng="16200000" swAng="-5400000"/>
                <a:lnTo>
                  <a:pt x="0" y="18689"/>
                </a:lnTo>
                <a:arcTo wR="3600" hR="3600" stAng="10800000" swAng="-5400000"/>
                <a:lnTo>
                  <a:pt x="18000" y="222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4ec0"/>
          </a:solidFill>
          <a:ln w="25560">
            <a:solidFill>
              <a:srgbClr val="0037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2004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年　金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2005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年　金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2006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年　銅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2007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年　金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2008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年　金賞→世界大会（日本）参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2009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年　銀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2010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年　金賞→世界大会（ｱﾒﾘｶ）参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2011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年　金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タイトル 1"/>
          <p:cNvSpPr/>
          <p:nvPr/>
        </p:nvSpPr>
        <p:spPr>
          <a:xfrm>
            <a:off x="25092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品質改善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図 5" descr=""/>
          <p:cNvPicPr/>
          <p:nvPr/>
        </p:nvPicPr>
        <p:blipFill>
          <a:blip r:embed="rId1"/>
          <a:stretch/>
        </p:blipFill>
        <p:spPr>
          <a:xfrm>
            <a:off x="395280" y="1569960"/>
            <a:ext cx="3214800" cy="4667400"/>
          </a:xfrm>
          <a:prstGeom prst="rect">
            <a:avLst/>
          </a:prstGeom>
          <a:ln w="0">
            <a:noFill/>
          </a:ln>
        </p:spPr>
      </p:pic>
      <p:pic>
        <p:nvPicPr>
          <p:cNvPr id="158" name="図 6" descr=""/>
          <p:cNvPicPr/>
          <p:nvPr/>
        </p:nvPicPr>
        <p:blipFill>
          <a:blip r:embed="rId2"/>
          <a:stretch/>
        </p:blipFill>
        <p:spPr>
          <a:xfrm>
            <a:off x="6546960" y="2841480"/>
            <a:ext cx="2409840" cy="3360960"/>
          </a:xfrm>
          <a:prstGeom prst="rect">
            <a:avLst/>
          </a:prstGeom>
          <a:ln w="0">
            <a:noFill/>
          </a:ln>
        </p:spPr>
      </p:pic>
      <p:pic>
        <p:nvPicPr>
          <p:cNvPr id="159" name="図 7" descr=""/>
          <p:cNvPicPr/>
          <p:nvPr/>
        </p:nvPicPr>
        <p:blipFill>
          <a:blip r:embed="rId3"/>
          <a:stretch/>
        </p:blipFill>
        <p:spPr>
          <a:xfrm>
            <a:off x="3924360" y="2841480"/>
            <a:ext cx="230508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1:10:33Z</dcterms:created>
  <dc:creator>ＮＯＴＥ０１</dc:creator>
  <dc:description/>
  <dc:language>en-US</dc:language>
  <cp:lastModifiedBy>atushi akabane</cp:lastModifiedBy>
  <cp:lastPrinted>2012-07-03T06:18:12Z</cp:lastPrinted>
  <dcterms:modified xsi:type="dcterms:W3CDTF">2013-10-21T14:25:44Z</dcterms:modified>
  <cp:revision>36</cp:revision>
  <dc:subject/>
  <dc:title>会社案内</dc:title>
</cp:coreProperties>
</file>